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401-70D6-4124-9FC0-7278A4EE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7BC-4975-474F-9B9B-C2053686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AD8-FA01-4DAA-9530-3E900802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FFD-5D94-4326-A3EF-B4C45CC9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16A-DD34-4FFC-9302-5CA86BD8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915D-C834-4EE2-804E-5E80D2DE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6C7-D573-439A-9327-EE920506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213-E2D3-4CFF-823C-B6A1E421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83C-2789-448D-AF4A-15C80A7B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1C3-E1D2-4DDF-A3A0-AB9E10B3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CF0-03BE-462B-85A8-D9E6BFCC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26E-1F47-489D-9C40-D6404873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9AA8-340C-49AF-854D-A62A37400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Poetry in Mo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Figurative Langu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8382240" cy="3405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Your tur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splat1%5B1%5D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583000" cy="1820880"/>
          </a:xfrm>
          <a:prstGeom prst="rect">
            <a:avLst/>
          </a:prstGeom>
          <a:ln w="0">
            <a:noFill/>
          </a:ln>
        </p:spPr>
      </p:pic>
      <p:pic>
        <p:nvPicPr>
          <p:cNvPr id="66" name="BOOM2" descr=""/>
          <p:cNvPicPr/>
          <p:nvPr/>
        </p:nvPicPr>
        <p:blipFill>
          <a:blip r:embed="rId2"/>
          <a:stretch/>
        </p:blipFill>
        <p:spPr>
          <a:xfrm>
            <a:off x="5638680" y="12952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ll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n two or more words in a poem begin with the same consonant letter or soun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bbit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ed over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bbi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ces like a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nt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ffod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ughing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on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ok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ft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daffodil_02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105732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n YOU spot alliteration in these senten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lly took the subway to the store to stock up on salmon and sa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vis took his trumpet to Tuesday’s talent sh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ndy might marry Marvin if he moves out of his mother’s mobile h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46483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gures of Speech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 meant to be taken literally, or exactly as they are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an more than what is said on the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lp us see things differently and in unusual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d very often in poetry to create different im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res two unlike things using the words, “like” and “a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snow was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thick as a blan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ew baby was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delicate as a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gres ar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lik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nions. . .[They] hav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yers” (Shrek, 200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shrek1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1938240" cy="232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w you try to write simi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snow was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like a blanket on the cold ea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fe is  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y best friend is 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r eyes are 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res two unlike things by saying that on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the 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n use various form of verb “to be” (am, is, was, are, were, be, being, been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s: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world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your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m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n ang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hungry students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wer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pig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umblr_m912c0sV8p1re1sweo1_400" descr=""/>
          <p:cNvPicPr/>
          <p:nvPr/>
        </p:nvPicPr>
        <p:blipFill>
          <a:blip r:embed="rId1"/>
          <a:stretch/>
        </p:blipFill>
        <p:spPr>
          <a:xfrm>
            <a:off x="762120" y="4648320"/>
            <a:ext cx="2311200" cy="1906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et’s see how you d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s smile wa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unshine on a gloom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food 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children  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y friends 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erson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iving human traits to animals, objects, or ide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tornado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ace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through the t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thunder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grumble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like an old m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opcor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leap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ut of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6a00d8341bf7f753ef00e5507453448833-800wi" descr=""/>
          <p:cNvPicPr/>
          <p:nvPr/>
        </p:nvPicPr>
        <p:blipFill>
          <a:blip r:embed="rId1"/>
          <a:stretch/>
        </p:blipFill>
        <p:spPr>
          <a:xfrm>
            <a:off x="7086600" y="4648320"/>
            <a:ext cx="1766880" cy="1896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reate your own examples of personifica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leaf ___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r hair 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snowflake 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nomatopoe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rds that sound the same as the objects or actions they are describ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y cousi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lurp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he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lksh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basketb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woosh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rough the 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baco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izzl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ying 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2743200" cy="3741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0:44:05Z</dcterms:created>
  <dc:creator>Jodi McKinney</dc:creator>
  <dc:description/>
  <dc:language>en-US</dc:language>
  <cp:lastModifiedBy>Beastmaster</cp:lastModifiedBy>
  <dcterms:modified xsi:type="dcterms:W3CDTF">2012-10-23T01:07:40Z</dcterms:modified>
  <cp:revision>13</cp:revision>
  <dc:subject/>
  <dc:title>Poetry in Motion</dc:title>
</cp:coreProperties>
</file>